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FB5-9E62-4C40-97CB-F6FA550A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80A-79EE-45EA-BD95-86468D68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5F2-A36E-43C0-B082-B7D299BD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7FE-159B-4E38-B358-D520D4F4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7C27-D5E3-485C-A3F5-D92492C3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68C8-8070-4C9A-8F27-A668FCF6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764F-4347-4734-9A86-F313EE9F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2D6E-00A6-4604-ADD0-6E2FC8EB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B5A1-3A3A-4B6E-9704-8820631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3816-8232-4D6C-9493-00E3F40E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886E-A8C2-49A4-A33D-8F39FFB2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096-69BA-46A7-9C40-11949D4E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F81C-5CEA-46C4-9075-2B3993EC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9E54-12B3-4CCC-99B7-80ED10D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77A1-2F0F-4611-91F8-7C7A4976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33F-F16D-4BB1-9839-778C488A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92B-16B4-4F3D-8945-EB214B9F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CF1-F384-4CD4-B633-A7299F99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60A-12D2-47DB-B70C-3760853E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7F4-C16A-460B-B107-1BAF25C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C31-64D6-4ADB-B7E1-15082AD3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468-AD54-43BC-AACE-209A3D7A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E1F-6AD2-4C40-8B21-4CB4B17C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9D3-FA44-47CB-A759-8766A344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E00F-750B-4910-B2F9-845E4EA2D4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1AB7-9FF8-4C5A-BF7E-466BB41A05A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图片3"/>
          <p:cNvPicPr/>
          <p:nvPr/>
        </p:nvPicPr>
        <p:blipFill>
          <a:blip r:embed="rId1"/>
          <a:stretch/>
        </p:blipFill>
        <p:spPr>
          <a:xfrm>
            <a:off x="-4680" y="-23760"/>
            <a:ext cx="9153360" cy="69055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4"/>
          <p:cNvSpPr/>
          <p:nvPr/>
        </p:nvSpPr>
        <p:spPr>
          <a:xfrm>
            <a:off x="6702840" y="6381720"/>
            <a:ext cx="20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345"/>
                </a:solidFill>
                <a:latin typeface="微软雅黑"/>
                <a:ea typeface="微软雅黑"/>
              </a:rPr>
              <a:t>Copyright ©1998-20</a:t>
            </a:r>
            <a:r>
              <a:rPr b="0" lang="zh-CN" sz="1400" spc="-1" strike="noStrike">
                <a:solidFill>
                  <a:srgbClr val="404345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404345"/>
                </a:solidFill>
                <a:latin typeface="微软雅黑"/>
                <a:ea typeface="微软雅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079640" y="2281320"/>
            <a:ext cx="7143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垃圾邮件过滤网关解决方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nterprise Mail System SPAM Filter Gateway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611280" y="622440"/>
            <a:ext cx="208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7"/>
          <p:cNvSpPr/>
          <p:nvPr/>
        </p:nvSpPr>
        <p:spPr>
          <a:xfrm>
            <a:off x="500040" y="803160"/>
            <a:ext cx="44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过滤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智能过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接连接符 5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723960" y="2116080"/>
            <a:ext cx="2442960" cy="357516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5705640" y="5889600"/>
            <a:ext cx="23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55a11"/>
                </a:solidFill>
                <a:latin typeface="黑体"/>
                <a:ea typeface="黑体"/>
              </a:rPr>
              <a:t>关键字过滤，垃圾邮件更精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肘形连接符 8"/>
          <p:cNvCxnSpPr>
            <a:endCxn id="155" idx="1"/>
          </p:cNvCxnSpPr>
          <p:nvPr/>
        </p:nvCxnSpPr>
        <p:spPr>
          <a:xfrm>
            <a:off x="3247560" y="3848040"/>
            <a:ext cx="2458440" cy="239616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22440"/>
            <a:ext cx="208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37508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7"/>
          <p:cNvSpPr/>
          <p:nvPr/>
        </p:nvSpPr>
        <p:spPr>
          <a:xfrm>
            <a:off x="500040" y="8031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过滤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记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5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73120" y="2879640"/>
            <a:ext cx="3357720" cy="31258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6431040" y="6162840"/>
            <a:ext cx="32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55a11"/>
                </a:solidFill>
                <a:latin typeface="黑体"/>
                <a:ea typeface="黑体"/>
              </a:rPr>
              <a:t>学习机制避免误判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55a11"/>
                </a:solidFill>
                <a:latin typeface="黑体"/>
                <a:ea typeface="黑体"/>
              </a:rPr>
              <a:t>准确率更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肘形连接符 8"/>
          <p:cNvCxnSpPr>
            <a:endCxn id="162" idx="1"/>
          </p:cNvCxnSpPr>
          <p:nvPr/>
        </p:nvCxnSpPr>
        <p:spPr>
          <a:xfrm>
            <a:off x="4871520" y="5390640"/>
            <a:ext cx="1559880" cy="112644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198360" y="1444680"/>
            <a:ext cx="2065320" cy="3392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11280" y="622440"/>
            <a:ext cx="208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7"/>
          <p:cNvSpPr/>
          <p:nvPr/>
        </p:nvSpPr>
        <p:spPr>
          <a:xfrm>
            <a:off x="500040" y="8031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过滤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智能云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接连接符 5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198360" y="2155680"/>
            <a:ext cx="2065320" cy="43812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图片 4" descr=""/>
          <p:cNvPicPr/>
          <p:nvPr/>
        </p:nvPicPr>
        <p:blipFill>
          <a:blip r:embed="rId2"/>
          <a:stretch/>
        </p:blipFill>
        <p:spPr>
          <a:xfrm>
            <a:off x="500040" y="3282840"/>
            <a:ext cx="7962840" cy="3324240"/>
          </a:xfrm>
          <a:prstGeom prst="rect">
            <a:avLst/>
          </a:prstGeom>
          <a:ln w="0">
            <a:noFill/>
          </a:ln>
        </p:spPr>
      </p:pic>
      <p:sp>
        <p:nvSpPr>
          <p:cNvPr id="170" name="矩形 7"/>
          <p:cNvSpPr/>
          <p:nvPr/>
        </p:nvSpPr>
        <p:spPr>
          <a:xfrm>
            <a:off x="3411360" y="504180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55a11"/>
                </a:solidFill>
                <a:latin typeface="黑体"/>
                <a:ea typeface="黑体"/>
              </a:rPr>
              <a:t>实时同步云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肘形连接符 8"/>
          <p:cNvCxnSpPr>
            <a:stCxn id="168" idx="3"/>
          </p:cNvCxnSpPr>
          <p:nvPr/>
        </p:nvCxnSpPr>
        <p:spPr>
          <a:xfrm>
            <a:off x="2263320" y="2374560"/>
            <a:ext cx="1482120" cy="167724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172" name="矩形 23"/>
          <p:cNvSpPr/>
          <p:nvPr/>
        </p:nvSpPr>
        <p:spPr>
          <a:xfrm>
            <a:off x="3844800" y="1477800"/>
            <a:ext cx="509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智能云库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通过云端自动推送更新垃圾邮件库；管理员可以查看当前邮件病毒库、反勒索病毒库、反钓鱼邮件库、归纳识别库等垃圾邮件库更新情况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9"/>
          <p:cNvSpPr/>
          <p:nvPr/>
        </p:nvSpPr>
        <p:spPr>
          <a:xfrm>
            <a:off x="635040" y="4172040"/>
            <a:ext cx="7553160" cy="243504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7"/>
          <p:cNvSpPr/>
          <p:nvPr/>
        </p:nvSpPr>
        <p:spPr>
          <a:xfrm>
            <a:off x="500040" y="112860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界垃圾邮件过滤网关方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组合 10"/>
          <p:cNvGrpSpPr/>
          <p:nvPr/>
        </p:nvGrpSpPr>
        <p:grpSpPr>
          <a:xfrm>
            <a:off x="660600" y="2257560"/>
            <a:ext cx="433080" cy="300960"/>
            <a:chOff x="660600" y="2257560"/>
            <a:chExt cx="433080" cy="300960"/>
          </a:xfrm>
        </p:grpSpPr>
        <p:sp>
          <p:nvSpPr>
            <p:cNvPr id="176" name="任意多边形 12"/>
            <p:cNvSpPr/>
            <p:nvPr/>
          </p:nvSpPr>
          <p:spPr>
            <a:xfrm rot="19743600">
              <a:off x="723960" y="2268000"/>
              <a:ext cx="119160" cy="27972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任意多边形 15"/>
            <p:cNvSpPr/>
            <p:nvPr/>
          </p:nvSpPr>
          <p:spPr>
            <a:xfrm rot="19743600">
              <a:off x="911160" y="2268000"/>
              <a:ext cx="119160" cy="27972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16"/>
          <p:cNvSpPr/>
          <p:nvPr/>
        </p:nvSpPr>
        <p:spPr>
          <a:xfrm>
            <a:off x="3466440" y="219852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品牌（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过滤网关，价高、性价比低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组合 17"/>
          <p:cNvGrpSpPr/>
          <p:nvPr/>
        </p:nvGrpSpPr>
        <p:grpSpPr>
          <a:xfrm>
            <a:off x="644760" y="3143520"/>
            <a:ext cx="433080" cy="300960"/>
            <a:chOff x="644760" y="3143520"/>
            <a:chExt cx="433080" cy="300960"/>
          </a:xfrm>
        </p:grpSpPr>
        <p:sp>
          <p:nvSpPr>
            <p:cNvPr id="180" name="任意多边形 18"/>
            <p:cNvSpPr/>
            <p:nvPr/>
          </p:nvSpPr>
          <p:spPr>
            <a:xfrm rot="19743600">
              <a:off x="707760" y="315396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任意多边形 19"/>
            <p:cNvSpPr/>
            <p:nvPr/>
          </p:nvSpPr>
          <p:spPr>
            <a:xfrm rot="19743600">
              <a:off x="894960" y="315396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文本框 20"/>
          <p:cNvSpPr/>
          <p:nvPr/>
        </p:nvSpPr>
        <p:spPr>
          <a:xfrm>
            <a:off x="1092240" y="3062160"/>
            <a:ext cx="72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其他品牌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滤率不高，性价比低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21"/>
          <p:cNvGrpSpPr/>
          <p:nvPr/>
        </p:nvGrpSpPr>
        <p:grpSpPr>
          <a:xfrm>
            <a:off x="628560" y="4024800"/>
            <a:ext cx="433800" cy="302040"/>
            <a:chOff x="628560" y="4024800"/>
            <a:chExt cx="433800" cy="302040"/>
          </a:xfrm>
        </p:grpSpPr>
        <p:sp>
          <p:nvSpPr>
            <p:cNvPr id="184" name="任意多边形 22"/>
            <p:cNvSpPr/>
            <p:nvPr/>
          </p:nvSpPr>
          <p:spPr>
            <a:xfrm rot="19743600">
              <a:off x="691920" y="4035240"/>
              <a:ext cx="119160" cy="28080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任意多边形 24"/>
            <p:cNvSpPr/>
            <p:nvPr/>
          </p:nvSpPr>
          <p:spPr>
            <a:xfrm rot="19743600">
              <a:off x="879120" y="4035240"/>
              <a:ext cx="119160" cy="28080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文本框 25"/>
          <p:cNvSpPr/>
          <p:nvPr/>
        </p:nvSpPr>
        <p:spPr>
          <a:xfrm>
            <a:off x="2237400" y="3975120"/>
            <a:ext cx="5572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佑友垃圾邮件过滤网关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垃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病毒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滤率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8%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滤更准确、误判更低，稳定性更好，智能化更好！可与佑友邮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形成一体化。性价比极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31"/>
          <p:cNvSpPr/>
          <p:nvPr/>
        </p:nvSpPr>
        <p:spPr>
          <a:xfrm>
            <a:off x="883800" y="981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施维护服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椭圆 19"/>
          <p:cNvSpPr/>
          <p:nvPr/>
        </p:nvSpPr>
        <p:spPr>
          <a:xfrm>
            <a:off x="809640" y="2184480"/>
            <a:ext cx="523800" cy="5252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椭圆 20"/>
          <p:cNvSpPr/>
          <p:nvPr/>
        </p:nvSpPr>
        <p:spPr>
          <a:xfrm>
            <a:off x="809640" y="2813040"/>
            <a:ext cx="523800" cy="527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162"/>
          <p:cNvSpPr/>
          <p:nvPr/>
        </p:nvSpPr>
        <p:spPr>
          <a:xfrm>
            <a:off x="1609560" y="1994040"/>
            <a:ext cx="813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×2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技术服务热线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-630-51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椭圆 21"/>
          <p:cNvSpPr/>
          <p:nvPr/>
        </p:nvSpPr>
        <p:spPr>
          <a:xfrm>
            <a:off x="809640" y="3441600"/>
            <a:ext cx="523800" cy="527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162"/>
          <p:cNvSpPr/>
          <p:nvPr/>
        </p:nvSpPr>
        <p:spPr>
          <a:xfrm>
            <a:off x="1609560" y="2624040"/>
            <a:ext cx="638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终身服务支持，服务响应及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23"/>
          <p:cNvSpPr/>
          <p:nvPr/>
        </p:nvSpPr>
        <p:spPr>
          <a:xfrm>
            <a:off x="809640" y="4071960"/>
            <a:ext cx="523800" cy="525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62"/>
          <p:cNvSpPr/>
          <p:nvPr/>
        </p:nvSpPr>
        <p:spPr>
          <a:xfrm>
            <a:off x="1609560" y="3252960"/>
            <a:ext cx="564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门安装调试、免费技术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25"/>
          <p:cNvSpPr/>
          <p:nvPr/>
        </p:nvSpPr>
        <p:spPr>
          <a:xfrm>
            <a:off x="809640" y="4718160"/>
            <a:ext cx="523800" cy="5252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162"/>
          <p:cNvSpPr/>
          <p:nvPr/>
        </p:nvSpPr>
        <p:spPr>
          <a:xfrm>
            <a:off x="1609560" y="3954600"/>
            <a:ext cx="564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备用机保障机制让您彻底放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162"/>
          <p:cNvSpPr/>
          <p:nvPr/>
        </p:nvSpPr>
        <p:spPr>
          <a:xfrm>
            <a:off x="1609560" y="4583160"/>
            <a:ext cx="6923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施预计时间：签订合同起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内完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" descr="您好，佑友！"/>
          <p:cNvPicPr/>
          <p:nvPr/>
        </p:nvPicPr>
        <p:blipFill>
          <a:blip r:embed="rId1"/>
          <a:stretch/>
        </p:blipFill>
        <p:spPr>
          <a:xfrm>
            <a:off x="6564240" y="5300640"/>
            <a:ext cx="2268720" cy="1554120"/>
          </a:xfrm>
          <a:prstGeom prst="rect">
            <a:avLst/>
          </a:prstGeom>
          <a:ln w="0">
            <a:noFill/>
          </a:ln>
        </p:spPr>
      </p:pic>
      <p:sp>
        <p:nvSpPr>
          <p:cNvPr id="199" name="椭圆 29"/>
          <p:cNvSpPr/>
          <p:nvPr/>
        </p:nvSpPr>
        <p:spPr>
          <a:xfrm>
            <a:off x="793800" y="5346720"/>
            <a:ext cx="523800" cy="525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62"/>
          <p:cNvSpPr/>
          <p:nvPr/>
        </p:nvSpPr>
        <p:spPr>
          <a:xfrm>
            <a:off x="1593720" y="5211720"/>
            <a:ext cx="564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持续升级服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7200" y="1220760"/>
            <a:ext cx="6864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6400" y="2304720"/>
            <a:ext cx="80647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Calibri"/>
                <a:ea typeface="微软雅黑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7"/>
          <p:cNvSpPr/>
          <p:nvPr/>
        </p:nvSpPr>
        <p:spPr>
          <a:xfrm>
            <a:off x="500040" y="1289160"/>
            <a:ext cx="81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邮件系统经常有如下问题，怎么办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6"/>
          <p:cNvSpPr/>
          <p:nvPr/>
        </p:nvSpPr>
        <p:spPr>
          <a:xfrm>
            <a:off x="976320" y="2173320"/>
            <a:ext cx="783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很多，正常邮件淹没在垃圾邮件之中，严重影响办公效率，如何解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邮件，勒索性病毒邮件泛滥，造成公司网络，服务器瘫痪，如何防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常的信，往往投到垃圾邮件中去，收件箱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收到，如何避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0"/>
          <p:cNvGrpSpPr/>
          <p:nvPr/>
        </p:nvGrpSpPr>
        <p:grpSpPr>
          <a:xfrm>
            <a:off x="552600" y="2273760"/>
            <a:ext cx="433080" cy="300960"/>
            <a:chOff x="552600" y="2273760"/>
            <a:chExt cx="433080" cy="300960"/>
          </a:xfrm>
        </p:grpSpPr>
        <p:sp>
          <p:nvSpPr>
            <p:cNvPr id="88" name="任意多边形 2"/>
            <p:cNvSpPr/>
            <p:nvPr/>
          </p:nvSpPr>
          <p:spPr>
            <a:xfrm rot="19743600">
              <a:off x="615600" y="228420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任意多边形 3"/>
            <p:cNvSpPr/>
            <p:nvPr/>
          </p:nvSpPr>
          <p:spPr>
            <a:xfrm rot="19743600">
              <a:off x="802800" y="228420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10"/>
          <p:cNvGrpSpPr/>
          <p:nvPr/>
        </p:nvGrpSpPr>
        <p:grpSpPr>
          <a:xfrm>
            <a:off x="547920" y="3175200"/>
            <a:ext cx="433080" cy="300960"/>
            <a:chOff x="547920" y="3175200"/>
            <a:chExt cx="433080" cy="300960"/>
          </a:xfrm>
        </p:grpSpPr>
        <p:sp>
          <p:nvSpPr>
            <p:cNvPr id="91" name="任意多边形 5"/>
            <p:cNvSpPr/>
            <p:nvPr/>
          </p:nvSpPr>
          <p:spPr>
            <a:xfrm rot="19743600">
              <a:off x="610920" y="318564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任意多边形 6"/>
            <p:cNvSpPr/>
            <p:nvPr/>
          </p:nvSpPr>
          <p:spPr>
            <a:xfrm rot="19743600">
              <a:off x="798120" y="318564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组合 10"/>
          <p:cNvGrpSpPr/>
          <p:nvPr/>
        </p:nvGrpSpPr>
        <p:grpSpPr>
          <a:xfrm>
            <a:off x="547920" y="4030920"/>
            <a:ext cx="433080" cy="300960"/>
            <a:chOff x="547920" y="4030920"/>
            <a:chExt cx="433080" cy="300960"/>
          </a:xfrm>
        </p:grpSpPr>
        <p:sp>
          <p:nvSpPr>
            <p:cNvPr id="94" name="任意多边形 8"/>
            <p:cNvSpPr/>
            <p:nvPr/>
          </p:nvSpPr>
          <p:spPr>
            <a:xfrm rot="19743600">
              <a:off x="610920" y="404136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任意多边形 9"/>
            <p:cNvSpPr/>
            <p:nvPr/>
          </p:nvSpPr>
          <p:spPr>
            <a:xfrm rot="19743600">
              <a:off x="798120" y="404136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图片 1" descr="问号"/>
          <p:cNvPicPr/>
          <p:nvPr/>
        </p:nvPicPr>
        <p:blipFill>
          <a:blip r:embed="rId1"/>
          <a:stretch/>
        </p:blipFill>
        <p:spPr>
          <a:xfrm>
            <a:off x="7008840" y="4181400"/>
            <a:ext cx="1927080" cy="25718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7"/>
          <p:cNvSpPr/>
          <p:nvPr/>
        </p:nvSpPr>
        <p:spPr>
          <a:xfrm>
            <a:off x="144360" y="71424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状描述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552600" y="4905360"/>
            <a:ext cx="8321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佑友为您提供一个垃圾邮件过滤网关解决方案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美的解决这些问题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0"/>
          <p:cNvSpPr/>
          <p:nvPr/>
        </p:nvSpPr>
        <p:spPr>
          <a:xfrm>
            <a:off x="2646360" y="1166760"/>
            <a:ext cx="427824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eaeaea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576600" y="125424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345"/>
                </a:solidFill>
                <a:latin typeface="Times New Roman"/>
                <a:ea typeface="微软雅黑"/>
              </a:rPr>
              <a:t>底层垃圾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0"/>
          <p:cNvSpPr/>
          <p:nvPr/>
        </p:nvSpPr>
        <p:spPr>
          <a:xfrm>
            <a:off x="2646360" y="5246640"/>
            <a:ext cx="4278240" cy="577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eaeaea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3862440" y="3981600"/>
            <a:ext cx="4278240" cy="57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eaeaea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3576600" y="533556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345"/>
                </a:solidFill>
                <a:latin typeface="Times New Roman"/>
                <a:ea typeface="微软雅黑"/>
              </a:rPr>
              <a:t>自学机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4792680" y="40356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345"/>
                </a:solidFill>
                <a:latin typeface="Times New Roman"/>
                <a:ea typeface="微软雅黑"/>
              </a:rPr>
              <a:t>关键字过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3862440" y="2635200"/>
            <a:ext cx="427824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eaeaea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4792680" y="273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345"/>
                </a:solidFill>
                <a:latin typeface="Times New Roman"/>
                <a:ea typeface="微软雅黑"/>
              </a:rPr>
              <a:t>黑名单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611280" y="2427120"/>
            <a:ext cx="2220840" cy="2135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eaeaea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576360" y="3220920"/>
            <a:ext cx="22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345"/>
                </a:solidFill>
                <a:latin typeface="Times New Roman"/>
                <a:ea typeface="微软雅黑"/>
              </a:rPr>
              <a:t>反垃圾系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7"/>
          <p:cNvSpPr/>
          <p:nvPr/>
        </p:nvSpPr>
        <p:spPr>
          <a:xfrm>
            <a:off x="500040" y="80316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智能垃圾邮件过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2" descr="2"/>
          <p:cNvPicPr/>
          <p:nvPr/>
        </p:nvPicPr>
        <p:blipFill>
          <a:blip r:embed="rId1"/>
          <a:srcRect l="718" t="7034" r="1266" b="0"/>
          <a:stretch/>
        </p:blipFill>
        <p:spPr>
          <a:xfrm>
            <a:off x="1117440" y="2602080"/>
            <a:ext cx="7016760" cy="3995640"/>
          </a:xfrm>
          <a:prstGeom prst="rect">
            <a:avLst/>
          </a:prstGeom>
          <a:ln w="0">
            <a:noFill/>
          </a:ln>
        </p:spPr>
      </p:pic>
      <p:sp>
        <p:nvSpPr>
          <p:cNvPr id="112" name="矩形 1"/>
          <p:cNvSpPr/>
          <p:nvPr/>
        </p:nvSpPr>
        <p:spPr>
          <a:xfrm>
            <a:off x="666720" y="1523880"/>
            <a:ext cx="833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百万邮箱账户垃圾样本库实时同步，多方位的过滤机制，提高垃圾邮件的拦截率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智能过滤技术提升反垃圾精度度，降低误判可能性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最先进的反病毒引擎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am A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时杀毒，内嵌式扫描病毒，对比传统的外挂式的杀毒引擎，效率 更高。定时自动升级，自动在线更新到最新的病毒特征库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7"/>
          <p:cNvSpPr/>
          <p:nvPr/>
        </p:nvSpPr>
        <p:spPr>
          <a:xfrm>
            <a:off x="500040" y="803160"/>
            <a:ext cx="40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佑友垃圾邮件网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31777"/>
          <p:cNvSpPr/>
          <p:nvPr/>
        </p:nvSpPr>
        <p:spPr>
          <a:xfrm>
            <a:off x="1116000" y="1992240"/>
            <a:ext cx="74674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佑友的“行为模式识别”技术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识别率、低误判率、主动防御，不需采用分分秒秒更新规则库的被动阻击垃圾邮件的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8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8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拦截成功率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 9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8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8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常信误拦率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万分之一（“一般级别”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8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8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ilgardSG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处理能力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  &gt;50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11280" y="622440"/>
            <a:ext cx="208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0" y="2301840"/>
            <a:ext cx="9144000" cy="34308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7"/>
          <p:cNvSpPr/>
          <p:nvPr/>
        </p:nvSpPr>
        <p:spPr>
          <a:xfrm>
            <a:off x="500040" y="803160"/>
            <a:ext cx="41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过滤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统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接连接符 5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133640" y="4503600"/>
            <a:ext cx="3657600" cy="5320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2782800" y="1693800"/>
            <a:ext cx="25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55a11"/>
                </a:solidFill>
                <a:latin typeface="黑体"/>
                <a:ea typeface="黑体"/>
              </a:rPr>
              <a:t>垃圾邮件百分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肘形连接符 8"/>
          <p:cNvCxnSpPr/>
          <p:nvPr/>
        </p:nvCxnSpPr>
        <p:spPr>
          <a:xfrm flipH="1" flipV="1">
            <a:off x="3752280" y="2087280"/>
            <a:ext cx="697320" cy="23752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22440"/>
            <a:ext cx="208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5" descr=""/>
          <p:cNvPicPr/>
          <p:nvPr/>
        </p:nvPicPr>
        <p:blipFill>
          <a:blip r:embed="rId1"/>
          <a:stretch/>
        </p:blipFill>
        <p:spPr>
          <a:xfrm>
            <a:off x="0" y="1494000"/>
            <a:ext cx="9144000" cy="48988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7"/>
          <p:cNvSpPr/>
          <p:nvPr/>
        </p:nvSpPr>
        <p:spPr>
          <a:xfrm>
            <a:off x="500040" y="8031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过滤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设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接连接符 5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968400" y="3684600"/>
            <a:ext cx="3057480" cy="60012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5784840" y="374184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55a11"/>
                </a:solidFill>
                <a:latin typeface="黑体"/>
                <a:ea typeface="黑体"/>
              </a:rPr>
              <a:t>垃圾邮件评判宽严度调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肘形连接符 8"/>
          <p:cNvCxnSpPr>
            <a:endCxn id="128" idx="1"/>
          </p:cNvCxnSpPr>
          <p:nvPr/>
        </p:nvCxnSpPr>
        <p:spPr>
          <a:xfrm flipV="1">
            <a:off x="4120920" y="3894840"/>
            <a:ext cx="1664280" cy="2134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130" name="矩形 10"/>
          <p:cNvSpPr/>
          <p:nvPr/>
        </p:nvSpPr>
        <p:spPr>
          <a:xfrm>
            <a:off x="982800" y="4572000"/>
            <a:ext cx="3030480" cy="5428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1"/>
          <p:cNvSpPr/>
          <p:nvPr/>
        </p:nvSpPr>
        <p:spPr>
          <a:xfrm>
            <a:off x="5730840" y="5653080"/>
            <a:ext cx="29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55a11"/>
                </a:solidFill>
                <a:latin typeface="黑体"/>
                <a:ea typeface="黑体"/>
              </a:rPr>
              <a:t>投进隔离区并推送通知（模式选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肘形连接符 12"/>
          <p:cNvCxnSpPr>
            <a:endCxn id="131" idx="1"/>
          </p:cNvCxnSpPr>
          <p:nvPr/>
        </p:nvCxnSpPr>
        <p:spPr>
          <a:xfrm>
            <a:off x="4052520" y="4940280"/>
            <a:ext cx="1678680" cy="86760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11280" y="622440"/>
            <a:ext cx="208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0" y="1757520"/>
            <a:ext cx="9139320" cy="433548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7"/>
          <p:cNvSpPr/>
          <p:nvPr/>
        </p:nvSpPr>
        <p:spPr>
          <a:xfrm>
            <a:off x="500040" y="8031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过滤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功能设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5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0" y="3657600"/>
            <a:ext cx="3835440" cy="92880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5991120" y="308628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55a11"/>
                </a:solidFill>
                <a:latin typeface="黑体"/>
                <a:ea typeface="黑体"/>
              </a:rPr>
              <a:t>设定垃圾过滤黑白名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肘形连接符 8"/>
          <p:cNvCxnSpPr/>
          <p:nvPr/>
        </p:nvCxnSpPr>
        <p:spPr>
          <a:xfrm flipV="1">
            <a:off x="3944520" y="3261960"/>
            <a:ext cx="2032920" cy="7372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140" name="矩形 14"/>
          <p:cNvSpPr/>
          <p:nvPr/>
        </p:nvSpPr>
        <p:spPr>
          <a:xfrm>
            <a:off x="1473120" y="1787400"/>
            <a:ext cx="819360" cy="39240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5429160" y="1449360"/>
            <a:ext cx="26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55a11"/>
                </a:solidFill>
                <a:latin typeface="黑体"/>
                <a:ea typeface="黑体"/>
              </a:rPr>
              <a:t>在线杀毒过滤病毒邮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肘形连接符 16"/>
          <p:cNvCxnSpPr>
            <a:stCxn id="140" idx="0"/>
          </p:cNvCxnSpPr>
          <p:nvPr/>
        </p:nvCxnSpPr>
        <p:spPr>
          <a:xfrm flipV="1">
            <a:off x="1881720" y="1596240"/>
            <a:ext cx="3385080" cy="19116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11280" y="622440"/>
            <a:ext cx="208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0" y="1477800"/>
            <a:ext cx="9153360" cy="424656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7"/>
          <p:cNvSpPr/>
          <p:nvPr/>
        </p:nvSpPr>
        <p:spPr>
          <a:xfrm>
            <a:off x="500040" y="80316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垃圾邮件过滤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隔离列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5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1487520" y="2184480"/>
            <a:ext cx="2951280" cy="360180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5869080" y="264168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55a11"/>
                </a:solidFill>
                <a:latin typeface="黑体"/>
                <a:ea typeface="黑体"/>
              </a:rPr>
              <a:t>被隔离的垃圾邮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55a11"/>
                </a:solidFill>
                <a:latin typeface="黑体"/>
                <a:ea typeface="黑体"/>
              </a:rPr>
              <a:t>列表，方便查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肘形连接符 8"/>
          <p:cNvCxnSpPr>
            <a:endCxn id="148" idx="1"/>
          </p:cNvCxnSpPr>
          <p:nvPr/>
        </p:nvCxnSpPr>
        <p:spPr>
          <a:xfrm flipV="1">
            <a:off x="4517640" y="2995200"/>
            <a:ext cx="1351800" cy="103104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1:48:00Z</dcterms:created>
  <dc:creator>Administrator</dc:creator>
  <dc:description/>
  <dc:language>en-US</dc:language>
  <cp:lastModifiedBy>admin</cp:lastModifiedBy>
  <dcterms:modified xsi:type="dcterms:W3CDTF">2019-11-15T03:38:27Z</dcterms:modified>
  <cp:revision>2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  <property fmtid="{D5CDD505-2E9C-101B-9397-08002B2CF9AE}" pid="3" name="KSORubyTemplateID">
    <vt:lpwstr>13</vt:lpwstr>
  </property>
</Properties>
</file>